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6AC-36B5-4FDE-9FF8-A6557566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94C-A7F1-41AE-9B38-867CB166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7F2-1665-42B7-B11C-1B86D55C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087-5144-432D-B328-3B835704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8F72-51AF-457B-8797-CA7935A6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967B-8CC0-4478-9982-E8DDCD47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81ED-BA21-4228-AD3C-F00F89C7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BCA5-8DC6-4758-B3E5-E5FE024C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68C9-589C-449D-B2AB-AD1C902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6673-F26E-4501-BB80-0A37B11E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096D-B54D-42C5-B3B2-65200792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0C5-6E97-4087-99C1-293C581E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2223-8DE9-411C-9BE1-D721EE4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F034-198D-4817-A4DF-94C57BF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5F3E-C45F-4D9F-BC3C-A026C16A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A355-44AF-49DF-B182-B3B6BE65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D920-82C5-4769-A4C8-26AB8206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D7D-F390-4D58-A4CB-BC98D0CE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13C-F38E-482F-9A6B-9C89DBBA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594-C811-459F-9AB0-3C3D22AA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5BA-3FB5-4250-83ED-2BCF3523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928-716B-4928-9041-6977E49F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B2C-4C69-4528-8349-08E5A80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3DB-18EE-4CA8-BB5C-045A35BB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30D6-A806-4D78-99BD-1927AA9C50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E04-EC2F-46C4-8CE7-622F60F09E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2c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nder Bias Survey (Children &amp; Adult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atthe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65960" y="1828800"/>
            <a:ext cx="177804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2824200" cy="2187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00720" y="3962520"/>
            <a:ext cx="296676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286000" y="3476520"/>
            <a:ext cx="22255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Resu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results of the children survey I found out that their answers were mostly based on their gender and what they thought about the other gen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results of the adult survey the answers given were based on their experiences and also their thoughts of the other gen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concluded that people of a higher age have more thought about the questions and answers. However most of the children answers I got were based on thoughts , gender , and stereotypes. I have also found out that I have some stereotypical thoughts of my gender, and some that are not stereotyp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 part</a:t>
            </a:r>
            <a:r>
              <a:rPr b="1" lang="en-US" sz="4400" spc="-1" strike="noStrike">
                <a:solidFill>
                  <a:srgbClr val="ffffb7"/>
                </a:solidFill>
                <a:latin typeface="Lucida Console"/>
              </a:rPr>
              <a:t> II      (questions for m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tereotypes affect how we see and interact with other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using stereotypes to judge people harmf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you find out about yoursel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you find biases that you didn’t know you had? What were the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we do right now that can help end gender bi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 part </a:t>
            </a:r>
            <a:r>
              <a:rPr b="1" lang="en-US" sz="4400" spc="-1" strike="noStrike">
                <a:solidFill>
                  <a:srgbClr val="ffffb7"/>
                </a:solidFill>
                <a:latin typeface="Lucida Console"/>
              </a:rPr>
              <a:t>III  (answers from m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eotypes do interact with our thoughts of other people and what they believe about both genders to make their abilities better or w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stereotypes can be harmful in ways of a persons religion , gender , or personal belief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ound out that I had some biases that indeed involve my gender and some that were based on what I thought about the other gender. I also found out that we can protest or collect and share ideas that can help end gender bias righ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Lucida Console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Lucida Console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this unit is to survey children and adults on gender bias and stereotypical questions. I hope to learn how people base their answers and some things about myself that I didn’t know befo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 questions  (kid survey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Do you think  men should be more polite tha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Are women are more athletic than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Should men be criticized by women on how they loo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Should men play video games more tha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Are women easier to work with than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 Questions  (kid survey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Were better inventions made by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Could men survive on an uncivilized island longer tha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Do you think women are physically healthier than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Do women follow directions better than 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Could a man rule a country better than a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e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id   Answ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295280"/>
          <a:ext cx="7848360" cy="5693040"/>
        </p:xfrm>
        <a:graphic>
          <a:graphicData uri="http://schemas.openxmlformats.org/drawingml/2006/table">
            <a:tbl>
              <a:tblPr/>
              <a:tblGrid>
                <a:gridCol w="347400"/>
                <a:gridCol w="282600"/>
                <a:gridCol w="316080"/>
                <a:gridCol w="314280"/>
                <a:gridCol w="316080"/>
                <a:gridCol w="315720"/>
                <a:gridCol w="338040"/>
                <a:gridCol w="292320"/>
                <a:gridCol w="312480"/>
                <a:gridCol w="317520"/>
                <a:gridCol w="316080"/>
                <a:gridCol w="312840"/>
                <a:gridCol w="317520"/>
                <a:gridCol w="312480"/>
                <a:gridCol w="316080"/>
                <a:gridCol w="317520"/>
                <a:gridCol w="314280"/>
                <a:gridCol w="355680"/>
                <a:gridCol w="272880"/>
                <a:gridCol w="316080"/>
                <a:gridCol w="315720"/>
                <a:gridCol w="314280"/>
                <a:gridCol w="316080"/>
                <a:gridCol w="315720"/>
                <a:gridCol w="282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 Questions (Adult survey)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1 Do you think men can cook better than women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2 Do you think men listen to women more than women listen to men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3 Do men have more knowledge about the economy than women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4 Are men more lazy than women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.5 Do men care about the environment more tha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 Questions (Adult survey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1 Do women smoke more than 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2 Do women socialize more than 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3 Do women have better memories than 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4 Are men more competitive than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5 Could men live without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6 Could women live without 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ult answer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219320"/>
          <a:ext cx="8007480" cy="6229080"/>
        </p:xfrm>
        <a:graphic>
          <a:graphicData uri="http://schemas.openxmlformats.org/drawingml/2006/table">
            <a:tbl>
              <a:tblPr/>
              <a:tblGrid>
                <a:gridCol w="727200"/>
                <a:gridCol w="728640"/>
                <a:gridCol w="677880"/>
                <a:gridCol w="777600"/>
                <a:gridCol w="727200"/>
                <a:gridCol w="730440"/>
                <a:gridCol w="726840"/>
                <a:gridCol w="728640"/>
                <a:gridCol w="727200"/>
                <a:gridCol w="728640"/>
                <a:gridCol w="72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ult answ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905120"/>
          <a:ext cx="8007480" cy="5175000"/>
        </p:xfrm>
        <a:graphic>
          <a:graphicData uri="http://schemas.openxmlformats.org/drawingml/2006/table">
            <a:tbl>
              <a:tblPr/>
              <a:tblGrid>
                <a:gridCol w="727200"/>
                <a:gridCol w="728640"/>
                <a:gridCol w="727200"/>
                <a:gridCol w="728640"/>
                <a:gridCol w="726840"/>
                <a:gridCol w="730440"/>
                <a:gridCol w="727200"/>
                <a:gridCol w="728640"/>
                <a:gridCol w="726840"/>
                <a:gridCol w="76356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43:21Z</dcterms:created>
  <dc:creator>Vanessa Collier</dc:creator>
  <dc:description/>
  <dc:language>en-US</dc:language>
  <cp:lastModifiedBy>Joni George</cp:lastModifiedBy>
  <dcterms:modified xsi:type="dcterms:W3CDTF">2010-04-27T18:28:46Z</dcterms:modified>
  <cp:revision>19</cp:revision>
  <dc:subject/>
  <dc:title>Gender Bias Survey</dc:title>
</cp:coreProperties>
</file>